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641-2059-468F-8785-281BCC3D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C6B-10FA-49EA-9EA7-E0031A7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828-3AE4-4298-A351-40F03475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1D1-BE66-496A-8D6D-2C8E125C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456-708B-41BD-93AA-D8F13F3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353-8679-45E6-9C91-F46594D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24E-5396-41C4-BE9A-0E07459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E35-3B23-447E-9108-4D511B8A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65B-5FD2-4401-8E12-DE6E7CB1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89E-DF86-4949-9596-19E735A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756-F99C-475A-8AB5-945659B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8A9-B2E1-4A4E-AD1B-5614B70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FD15-4242-43AA-9431-1FA3A8992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92280"/>
            <a:ext cx="2016000" cy="100800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484360" y="112392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765000"/>
            <a:ext cx="2448000" cy="865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in un altro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134136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443640" y="980640"/>
            <a:ext cx="865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692280"/>
            <a:ext cx="129528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vare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80360" y="1989000"/>
            <a:ext cx="1584360" cy="136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zio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ili(esemp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773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133720"/>
            <a:ext cx="2449440" cy="165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 stranieri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350028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3500280"/>
            <a:ext cx="172872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rattutto 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084640"/>
            <a:ext cx="151308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300360" y="4724280"/>
            <a:ext cx="358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5229360"/>
            <a:ext cx="216072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492280"/>
            <a:ext cx="2016000" cy="187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 le pers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 un paese se 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no all’ ester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ere e cer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81360"/>
            <a:ext cx="2124000" cy="1987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 emigranti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ti 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, anche se m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 una vol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sono an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501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151272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00360" y="551664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6093000"/>
            <a:ext cx="1224000" cy="54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57492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5589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6093000"/>
            <a:ext cx="1368360" cy="54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4581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0:57Z</dcterms:created>
  <dc:creator>studente</dc:creator>
  <dc:description/>
  <dc:language>en-US</dc:language>
  <cp:lastModifiedBy>studente</cp:lastModifiedBy>
  <dcterms:modified xsi:type="dcterms:W3CDTF">2016-12-05T10:32:41Z</dcterms:modified>
  <cp:revision>2</cp:revision>
  <dc:subject/>
  <dc:title>Diapositiva 1</dc:title>
</cp:coreProperties>
</file>